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083-FDB3-4440-A86B-E2218F6BB05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A6AA-177B-40D2-A13A-658747259E5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87C9-0C73-466E-A49A-9799A2851E1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3C4-F51D-4FEA-8B25-91EAEFA1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4DA-EEDF-4FE6-97E1-7B3471E4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0E2-EDC2-42AE-90D8-62BAFCF2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536-7594-4AB8-8A86-A8EF7ED7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49F-47D2-460E-BFAB-BEF50DEA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E54-5C9D-45E0-83C8-EC9756B7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26C-3E0B-401F-BAB0-EE9CB248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69F-FD39-4F71-BAF8-A75E11B7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6B7-569B-476E-A56F-D2AEAC1A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4FD-2407-4443-9431-ABF28A64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EA1-4315-4271-9C85-54B3311E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9D6-C6D1-4539-98A1-167DFA2F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2A7-4F75-4CAE-B967-5F6B891BA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57200" y="6553080"/>
            <a:ext cx="8153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, Web Technologies: A Computer Science Perspective, © 2007 Prentice-Hall, Inc. All rights reserved. 0-13-185603-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tp://ftp.rfc-editor.org/in-notes/std/std7.tx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ana.org/assignments/port-number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tp://ftp.rfc-editor.org/in-notes/std/std6.tx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tp://ftp.rfc-editor.org/in-notes/std/std5.txt" TargetMode="External"/><Relationship Id="rId2" Type="http://schemas.openxmlformats.org/officeDocument/2006/relationships/hyperlink" Target="ftp://ftp.rfc-editor.org/in-notes/std/std5.tx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Web Essentials: Clients, Servers, and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85800" y="917640"/>
            <a:ext cx="77724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SCIENCE PERSPECTIV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Y C.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136A-2FD2-4AD2-8B6B-B92A8403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mission Control Protocol (T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 of 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of packet delivery (packets can be dropp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is one-way (source to dest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C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s concept of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op of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guarantee that packets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wo-way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ull du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B659-6624-4341-8043-81186431C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362320" y="1828800"/>
            <a:ext cx="152388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781680" y="1828800"/>
            <a:ext cx="152424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886200" y="1981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193280" y="16765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talk to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H="1">
            <a:off x="3885840" y="2514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192200" y="2209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.  Can I talk to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38862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192200" y="27432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193640" y="3505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 pa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3885840" y="6095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191840" y="57913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4193640" y="4800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 pa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41940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 resent pa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 flipH="1">
            <a:off x="3885840" y="4343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4191840" y="4038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>
            <a:off x="388620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3886200" y="3809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3886200" y="5105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460080" y="205740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830240" y="1676520"/>
            <a:ext cx="52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1830240" y="3352680"/>
            <a:ext cx="52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1830240" y="4800600"/>
            <a:ext cx="52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55880" y="3657600"/>
            <a:ext cx="195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140040" y="4989600"/>
            <a:ext cx="195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nd packet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(or delay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F17-DD29-4355-AC96-5CD1B0B19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lso adds concept of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header contains port number representing an application program on the destination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ort numbers hav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ndard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ort 25 is normally used for email transmitted using the Simple Mail Transfer Protocol (SM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rt numbers are available first-come-first served to any 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6ECC-0275-4CC4-9F85-BD566342C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TCPIP"/>
          <p:cNvPicPr/>
          <p:nvPr/>
        </p:nvPicPr>
        <p:blipFill>
          <a:blip r:embed="rId1"/>
          <a:stretch/>
        </p:blipFill>
        <p:spPr>
          <a:xfrm>
            <a:off x="1447920" y="1523880"/>
            <a:ext cx="6553080" cy="416412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DCED-DD9B-45DF-8A86-EDB86DB35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Datagram Protocol (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D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TCP in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on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port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TCP in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nection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ransmission guara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 of UDP vs.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ght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faster for one-time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F038-B595-4282-9F74-6D02C8F1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Name Service (D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is the “phone book” fo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between host names and IP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often uses UDP fo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b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d by dots, e.g.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ww.exampl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label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-leve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: .com, .or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-code: .us, .s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4BC2-3DC1-4167-AE2B-E01FEBAD6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s are divided into second-level domains, which can be further divided into subdomain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in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ww.exampl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cond-leve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st name plus domain name information is called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ully qualified domain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ve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w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host name,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ww.exampl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Q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F779-BBBB-4352-920B-A7DA23955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nslook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 provides command-line access to DNS (on most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up a host name given an IP address is known a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verse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single host may have mutliple IP add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returned is t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non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P address specified in the DNS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DBA0-42FA-4E35-B2DA-9216282B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er-level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tocols build on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analogy: TCP specifies how we initiate and terminate the phone call, but some other protocol specifies how we carry on the actual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M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ile transf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ansfer of Web doc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01E1-8F62-4304-AF38-187B866B0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one of several systems for organizing Internet-bas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ors: WAIS, Gopher, ARC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ive feature of Web: support for hypertext (text containing lin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vi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ypertext Transport Proto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representation using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ypertext Markup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T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23A4-24C1-495C-A90E-6AD189EB2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origin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PA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ate 1960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earliest attempts to network heterogeneous, geographically dispersed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first available on ARPANET in 1972 (and quickly very popular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PAN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ss was limi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elect DoD-funded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469F-8F99-42D4-9894-0BCA551E7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is the collection of machin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b serv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n the Internet that provide information, particularly HTML documents, via HT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that access information on the Web are known a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b cl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b brows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ftware used by an end user to access the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387-688B-42E0-AC6C-D8C34DC1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xt Transport Protocol (HTT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is based on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quest-respo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sends a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sends a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is 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e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oco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tocol does not require the server to remember anything about the client between requ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C941-54FD-4D65-8AEB-D1318C9D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implemented over a TCP connection (80 is standard port number for 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browser-server inter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nters Web address in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uses DNS to locate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opens TCP connection to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sends HTTP request over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ends HTTP response to browser over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displays body of response in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en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browser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0DE9-2B86-4864-AB4B-BB0B8DA74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86000" y="2147760"/>
            <a:ext cx="5029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$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telnet www.example.org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rying 192.0.34.166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Connected to www.example.com (192.0.34.16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Escape character is ’^]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Host: 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HTTP/1.1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Date: Thu, 09 Oct 2003 20:30:49 GM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906560" y="34290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840600" y="35053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06560" y="42670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841320" y="44956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824760" y="2170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043000" y="20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EA52-A29C-4F38-A1A9-0F7C882F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52E-37C3-44E2-898B-915A00084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9981-0249-4799-B70D-8AAE9036B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qu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-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FA43-C2C4-454B-B8BB-0A328D065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qu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-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cover 1.1, in which version part of start line must be exactly as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EDE-DB3F-4B3D-BE83-2FBE15CEA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qu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-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DC4F-0040-4957-B8AC-49DD37EF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niform Resource Identif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scheme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scheme-depend-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://www.example.com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che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quest-U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ortion of the requested URI that follows the host name (which is supplied by the required Host header fie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quest-URI portion of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://www.examp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9E37-B967-48E8-90B1-DC6BA0316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-acc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versity networks (e.g., SURA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S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S departments not on ARP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FNET (1985-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purpose: connect supercomputer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purpose: provid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ackb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nect region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F6D8-2753-4CCF-8BB2-826F3F27B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’s are of two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iform Resource 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identify resources with unique names, such as books (which have unique ISBN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 is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iform Resource 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location at which a resource can b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me other URL schemes ar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htt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mail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1238-F98B-48C1-8486-F87BA27B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ET / HTTP/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 requ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-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03FE-E89F-441F-96F0-7079FE985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equest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f link is clicked or address typed in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ody in request with GE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submit button is clicked on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information contained in body of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that only header fields (no body) be returned in th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B3B4-81A1-479B-BF7D-F591D301D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01F-2EB4-4248-B013-66DD952C2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 fiel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field name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fiel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eld 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case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eld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continue on multiple lines by starting continuation lines with whit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values may contai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ME ty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lity valu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ldcard char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*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4E63-DAC5-4E90-A252-2890044F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urpose Internet Mail Extensions (MIM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 for specifying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tent 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TTP, typically used to specify content type of the body of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E content type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top-level type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Typewriter"/>
              </a:rPr>
              <a:t>sub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text/html, image/j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C7D5-46F0-4171-BCF8-4A6BAF0F5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 Quality Values and Wildc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header field with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quality val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ac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  text/xml,text/html;q=0.9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  text/plain;q=0.8, image/jpeg,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  image/gif;q=0.2,*/*;q=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value applies to all preceding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he value, higher the p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use of wildcards to specify quality 0.1 for any MIME type not specified ear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5860-EC09-4262-B986-021718DE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eader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st name from URL (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r-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ype of browser sending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ME types of acceptabl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alu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server to close connection after single request/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ME type of (POST) body, normally application/x-www-form-urlen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ytes i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fe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RL of document containing link that supplied URI for this HTTP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D974-C873-4574-968C-A4CB2B2A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HTTP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HTTP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36400" y="1752480"/>
            <a:ext cx="8071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NSFNetBackbone"/>
          <p:cNvPicPr/>
          <p:nvPr/>
        </p:nvPicPr>
        <p:blipFill>
          <a:blip r:embed="rId1"/>
          <a:stretch/>
        </p:blipFill>
        <p:spPr>
          <a:xfrm>
            <a:off x="1600200" y="1905120"/>
            <a:ext cx="6210360" cy="410976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6276-CB54-4F0B-8337-D04D0EBE3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B647-1D2A-458B-8FED-DE768B4B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1D30-0B8F-4CE8-8A9D-79288D5DD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HTTP/1.1 200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ace-separated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ver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phrase (intended for human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2D81-B83B-4E12-ABAD-3E36C430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digi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igit is class of the status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=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=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=Redirection (alternate URL is suppl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=Clien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=Serve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wo digits provide additi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9C55-020C-4716-BA83-6D5B2482C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 field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AB09-1D6D-4AC7-B854-16428437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eader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ate and time at which response was generated (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ternate URI if status is re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st-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ate and time the requested resource was last modified on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ate and time after which the client’s copy of the resource will be out-of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T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unique identifier for this version of the requested resource (changes if resourc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12CE-15FC-46EC-876F-61CE9AAC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a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ocal copy of information obtained from some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b browsers use cache to store requested resources so that subsequent requests to the same resource will not necessarily require an HTTP request/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icon appearing multiple times in a Web 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25E0-C41A-49E8-925E-09E2C488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33520" y="2057400"/>
            <a:ext cx="14475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781680" y="2057400"/>
            <a:ext cx="14479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2057400" y="2286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2593080" y="1981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TTP request fo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H="1">
            <a:off x="2057040" y="28195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2595240" y="251460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TTP response containing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152280" y="1523880"/>
            <a:ext cx="22100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64640" y="1143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6400800" y="1447920"/>
            <a:ext cx="22096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996600" y="1103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685800" y="5257800"/>
            <a:ext cx="1143000" cy="990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7621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748800" y="47610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t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BB2-5620-43BD-A700-462AC5F5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533520" y="2057400"/>
            <a:ext cx="14475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781680" y="2057400"/>
            <a:ext cx="14479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152280" y="1523880"/>
            <a:ext cx="22100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764640" y="1143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6400800" y="1447920"/>
            <a:ext cx="22096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6996600" y="1103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685800" y="5257800"/>
            <a:ext cx="1143000" cy="990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670680" y="361800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nee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E876-FE71-4E02-AA01-987B68C22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33520" y="2057400"/>
            <a:ext cx="14475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781680" y="2057400"/>
            <a:ext cx="14479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52280" y="1523880"/>
            <a:ext cx="22100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764640" y="1143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6400800" y="1447920"/>
            <a:ext cx="22096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996600" y="1103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685800" y="5257800"/>
            <a:ext cx="1143000" cy="990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671760" y="361800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2057400" y="32767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2593080" y="29718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fo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057040" y="38098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595600" y="35053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 containing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337920" y="2246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46A2-AA76-4B75-A5CB-C96473B2F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etwork of networks connected via the public backbone and communicating using TCP/IP communicat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bone initially supplied by NSFNET, privately funded (ISP fees) beginning in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2532-23B7-43EB-BD6B-F2E91FDC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33520" y="2057400"/>
            <a:ext cx="14475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781680" y="2057400"/>
            <a:ext cx="14479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2280" y="1523880"/>
            <a:ext cx="22100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764640" y="1143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6400800" y="1447920"/>
            <a:ext cx="22096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6996600" y="1103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685800" y="5257800"/>
            <a:ext cx="1143000" cy="990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671760" y="361800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12193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67560" y="47610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2347200" y="4761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DCCD-87EE-4659-93AD-4DE5C31F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uch) faster than HTTP request/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load o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 dis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d copy of resource may b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val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consistent with remote ver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C888-B941-49B6-B963-CD34AA500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ocument is represented by a string of integer values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de 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pping from code points to characters is defined by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aract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eader fields have character set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pt-Char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quest header listing character sets that the client can recog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accept-charset: ISO-8859-1,utf-8;q=0.7,*;q=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-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 include character set used to represent the body of the HTTP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Content-Type: text/html; charset=UTF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0A89-889B-4DA3-8C27-D5B7D2C8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Cl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ossible web cli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-only “browser” (lyn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ob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ftware-only clients, e.g., search engine “crawler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focus on traditional web brow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7AE-1619-4630-83F0-8EB20283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Brow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t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web addresses (URL’s) to HTTP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web servers via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ppropriately display) documents returned by a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8056-4D2B-416E-9AAD-6E3553206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URL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 uses authority to connect via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-URI included in start line (/ used for path if none suppli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 identifier not sent to server (used to scroll browser client a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376280" y="1676520"/>
            <a:ext cx="64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xample.org: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56789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a/b/c.t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=win&amp;s=ch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para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981080" y="1981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28195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135520" y="22096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(FQD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3886200" y="1981080"/>
            <a:ext cx="6094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4191120" y="1981080"/>
            <a:ext cx="0" cy="30492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3872160" y="2170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>
            <a:off x="2057400" y="2666880"/>
            <a:ext cx="24382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745720" y="26668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4572000" y="19810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71060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5562720" y="1981080"/>
            <a:ext cx="14475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5869800" y="2209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7238880" y="1981080"/>
            <a:ext cx="5335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7467480" y="1981080"/>
            <a:ext cx="0" cy="3049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1"/>
          <p:cNvSpPr/>
          <p:nvPr/>
        </p:nvSpPr>
        <p:spPr>
          <a:xfrm>
            <a:off x="7012440" y="22096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fra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2"/>
          <p:cNvSpPr/>
          <p:nvPr/>
        </p:nvSpPr>
        <p:spPr>
          <a:xfrm>
            <a:off x="4572000" y="2666880"/>
            <a:ext cx="2514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168520" y="26272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ques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F431-1C12-431E-BCAE-CB2DDD10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functiona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HTTP request via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Host header to specific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irtual ho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ne of many host names sharing an IP add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Request-URI to specific resource associated with the virtual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: Return file in HTTP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: Run program and return output in HTTP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ype of resource to appropriate MIME type and use to set Content-Type header in HTTP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formation about the request an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84C5-41A7-4250-B13C-71FBEEC7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d: UIUC, primary Web server c.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che: “A patchy” version of httpd, now the most popular server (esp. on Linux platfo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S: Microsoft Internet Informatio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c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talina) for running Jav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rvl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TML-generating programs) as back-end to Apache or I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un stand-alone using Coyote HTTP front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F25E-A96F-44A2-8193-77FC7F153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cat Web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-based server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 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Typewriter"/>
              </a:rPr>
              <a:t>http://localhost:808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lick on Server Administration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local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pecial host name that means “this 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1BC-6E76-4732-8C67-1F9311104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cat Web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TomcatAdmin"/>
          <p:cNvPicPr/>
          <p:nvPr/>
        </p:nvPicPr>
        <p:blipFill>
          <a:blip r:embed="rId1"/>
          <a:stretch/>
        </p:blipFill>
        <p:spPr>
          <a:xfrm>
            <a:off x="1200240" y="1371600"/>
            <a:ext cx="6743520" cy="411480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D587-51FB-4D93-BB5F-DB9317B4F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munication p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ow computers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. telephone “protocol”: how you answer and end call, what language you spea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protocols developed as part of ARPAN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ANET began using TCP/IP in 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both within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ocal area networ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AN’s) and betwee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9341-BA90-4E76-9446-9ABB96FEF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HTTP messages typically travel over a public network, private information (such as credit card numbers) should b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ncryp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even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avesdr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tt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RL scheme tells browser to use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encryption 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Socket Layer (SS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Layer Security (T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4A99-0AFE-4927-B5E5-9CDEE17B3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04920" y="1447920"/>
            <a:ext cx="106668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7543800" y="1447920"/>
            <a:ext cx="13716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>
            <a:off x="1905120" y="16765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2045160" y="13320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d like to talk securely to you (over port 4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"/>
          <p:cNvSpPr/>
          <p:nvPr/>
        </p:nvSpPr>
        <p:spPr>
          <a:xfrm flipH="1">
            <a:off x="1904760" y="22860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045880" y="194148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my certificate and encryp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1905120" y="32767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2061000" y="289548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n encrypted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 flipH="1">
            <a:off x="1904760" y="38862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045880" y="354168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n encrypted 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1905120" y="50292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2061000" y="464832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n encrypted HTTP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6"/>
          <p:cNvSpPr/>
          <p:nvPr/>
        </p:nvSpPr>
        <p:spPr>
          <a:xfrm flipH="1">
            <a:off x="1904760" y="56386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2045880" y="52941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n encrypted 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371600" y="1447920"/>
            <a:ext cx="53352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7086600" y="1447920"/>
            <a:ext cx="53352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9907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307440" y="19810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2"/>
          <p:cNvSpPr/>
          <p:nvPr/>
        </p:nvSpPr>
        <p:spPr>
          <a:xfrm flipH="1">
            <a:off x="91404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291960" y="491328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4"/>
          <p:cNvSpPr/>
          <p:nvPr/>
        </p:nvSpPr>
        <p:spPr>
          <a:xfrm>
            <a:off x="7391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7698960" y="19051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731484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7623000" y="495288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718D-8DE4-4BB8-A420-9DAA63F0F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e Serv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-in-the-Middle At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905120" y="3886200"/>
            <a:ext cx="160020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1905120" y="1905120"/>
            <a:ext cx="1600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6"/>
          <p:cNvSpPr/>
          <p:nvPr/>
        </p:nvSpPr>
        <p:spPr>
          <a:xfrm flipV="1">
            <a:off x="251460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61160" y="297180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xample.or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8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593080" y="3276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4724280" y="1905120"/>
            <a:ext cx="22860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800600" y="3886200"/>
            <a:ext cx="220968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2437920"/>
            <a:ext cx="1218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101840" y="331308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redit card number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BDD3-7AEF-42C5-8A7A-DB8FBEE09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e Serv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enting Man-in-the-Mid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905120" y="3886200"/>
            <a:ext cx="160020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905120" y="1905120"/>
            <a:ext cx="1600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 flipV="1">
            <a:off x="251460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461160" y="297180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xample.or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2593080" y="3276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4724280" y="1905120"/>
            <a:ext cx="22860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4800600" y="3886200"/>
            <a:ext cx="220968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xampl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3505320" y="2437920"/>
            <a:ext cx="1218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100040" y="3313080"/>
            <a:ext cx="36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me a certificate of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C912-8C9F-4020-BAD8-2245F112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undamental protocol defining the Internet (as the name implie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-bit number (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Pv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at most one device at a time (although device may hav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as four dot-separated bytes, e.g. 192.0.34.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6387-3630-4AF7-9932-3AF6E0190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function: transfer data from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ice to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t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source software creates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ing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ource and destination IP addresses, length of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estination is on another LAN, packet is sent to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ate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onnects to more than on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6D16-0ED0-4290-82CA-740DC5363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62120" y="2057400"/>
            <a:ext cx="12189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514600" y="365760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/>
          <p:cNvSpPr/>
          <p:nvPr/>
        </p:nvSpPr>
        <p:spPr>
          <a:xfrm>
            <a:off x="1219320" y="3429000"/>
            <a:ext cx="4267080" cy="2859120"/>
          </a:xfrm>
          <a:custGeom>
            <a:avLst/>
            <a:gdLst>
              <a:gd name="textAreaLeft" fmla="*/ 587880 w 4267080"/>
              <a:gd name="textAreaRight" fmla="*/ 3375720 w 4267080"/>
              <a:gd name="textAreaTop" fmla="*/ 431640 h 2859120"/>
              <a:gd name="textAreaBottom" fmla="*/ 2295000 h 28591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1295280" y="27432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152280" y="1677960"/>
            <a:ext cx="4724640" cy="3165480"/>
          </a:xfrm>
          <a:custGeom>
            <a:avLst/>
            <a:gdLst>
              <a:gd name="textAreaLeft" fmla="*/ 650880 w 4724640"/>
              <a:gd name="textAreaRight" fmla="*/ 3737520 w 4724640"/>
              <a:gd name="textAreaTop" fmla="*/ 478080 h 3165480"/>
              <a:gd name="textAreaBottom" fmla="*/ 2540880 h 31654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4724280" y="3200400"/>
            <a:ext cx="3733920" cy="2960640"/>
          </a:xfrm>
          <a:custGeom>
            <a:avLst/>
            <a:gdLst>
              <a:gd name="textAreaLeft" fmla="*/ 514440 w 3733920"/>
              <a:gd name="textAreaRight" fmla="*/ 2953800 w 3733920"/>
              <a:gd name="textAreaTop" fmla="*/ 447120 h 2960640"/>
              <a:gd name="textAreaBottom" fmla="*/ 2376360 h 2960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495680" y="4495680"/>
            <a:ext cx="1219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3124080" y="42670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349000" y="27795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349000" y="51418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6858000" y="3733920"/>
            <a:ext cx="1219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5715000" y="40381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78000" y="50655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A724-C33C-44E7-8BCC-BFB0252B6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49:08Z</dcterms:created>
  <dc:creator>Duquesne University</dc:creator>
  <dc:description/>
  <dc:language>en-US</dc:language>
  <cp:lastModifiedBy>user</cp:lastModifiedBy>
  <dcterms:modified xsi:type="dcterms:W3CDTF">2017-09-25T09:28:57Z</dcterms:modified>
  <cp:revision>41</cp:revision>
  <dc:subject/>
  <dc:title>Web Essentials</dc:title>
</cp:coreProperties>
</file>