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media/image25.wmf" ContentType="image/x-wmf"/>
  <Override PartName="/ppt/media/image2.wmf" ContentType="image/x-wmf"/>
  <Override PartName="/ppt/media/image29.png" ContentType="image/png"/>
  <Override PartName="/ppt/media/image32.wmf" ContentType="image/x-wmf"/>
  <Override PartName="/ppt/media/image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png" ContentType="image/png"/>
  <Override PartName="/ppt/media/image41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33.wmf" ContentType="image/x-wmf"/>
  <Override PartName="/ppt/media/image8.wmf" ContentType="image/x-wmf"/>
  <Override PartName="/ppt/media/image4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AAB-A487-47DF-8687-DA7B444C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2925-5766-41A5-9738-C390EE7E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139-179A-4840-BB53-767E278D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7494-AB70-4F1E-8D60-89F893DB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E84-2C8E-45FC-9D6E-95438C9C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5E0-9FD3-48EF-B73A-B2231E72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798-485E-4421-86D8-2DE5DA3C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AD6-A960-470C-B45A-011BA861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77A-EA56-419E-8636-D9F49AC8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05F-3201-4F38-8DB3-95213FEE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899-C604-43D2-A4CA-487D9C6B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BEF-A5F5-4D5D-BFC8-BABA1227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DBA9-98F3-4114-9A4F-6040558BF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6.wm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925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apter 4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ient-Side Programming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JavaScript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85800" y="917640"/>
            <a:ext cx="77724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SCIENCE PERSPECTIVE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REY C.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242120" cy="26319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918720" y="1523880"/>
            <a:ext cx="47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otice that there is no main() function/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838080" y="1792440"/>
            <a:ext cx="7242120" cy="2631960"/>
          </a:xfrm>
          <a:prstGeom prst="rect">
            <a:avLst/>
          </a:prstGeom>
          <a:ln w="0">
            <a:noFill/>
          </a:ln>
        </p:spPr>
      </p:pic>
      <p:sp>
        <p:nvSpPr>
          <p:cNvPr id="83" name="Oval 4"/>
          <p:cNvSpPr/>
          <p:nvPr/>
        </p:nvSpPr>
        <p:spPr>
          <a:xfrm>
            <a:off x="838080" y="1792440"/>
            <a:ext cx="152424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426400" y="1752480"/>
            <a:ext cx="46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mments like Java/C++ (/* */ also allow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242120" cy="2631960"/>
          </a:xfrm>
          <a:prstGeom prst="rect">
            <a:avLst/>
          </a:prstGeom>
          <a:ln w="0">
            <a:noFill/>
          </a:ln>
        </p:spPr>
      </p:pic>
      <p:sp>
        <p:nvSpPr>
          <p:cNvPr id="88" name="Oval 4"/>
          <p:cNvSpPr/>
          <p:nvPr/>
        </p:nvSpPr>
        <p:spPr>
          <a:xfrm>
            <a:off x="762120" y="2209680"/>
            <a:ext cx="1752480" cy="6858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898720" y="1295280"/>
            <a:ext cx="264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riable declar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ata type not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 flipH="1">
            <a:off x="2438280" y="1523880"/>
            <a:ext cx="533520" cy="7621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242120" cy="2631960"/>
          </a:xfrm>
          <a:prstGeom prst="rect">
            <a:avLst/>
          </a:prstGeom>
          <a:ln w="0">
            <a:noFill/>
          </a:ln>
        </p:spPr>
      </p:pic>
      <p:sp>
        <p:nvSpPr>
          <p:cNvPr id="94" name="Oval 4"/>
          <p:cNvSpPr/>
          <p:nvPr/>
        </p:nvSpPr>
        <p:spPr>
          <a:xfrm>
            <a:off x="2286000" y="2286000"/>
            <a:ext cx="1522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1752480" y="2514600"/>
            <a:ext cx="2286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5105520" y="3200400"/>
            <a:ext cx="2286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5181480" y="4191120"/>
            <a:ext cx="15264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474160" y="2550960"/>
            <a:ext cx="271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mi-colons are us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ot required, but 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llowed at statemen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 flipH="1" flipV="1">
            <a:off x="2437920" y="2437920"/>
            <a:ext cx="3048120" cy="38124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 flipH="1" flipV="1">
            <a:off x="1980720" y="2666520"/>
            <a:ext cx="3505320" cy="2286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H="1">
            <a:off x="5333760" y="3124080"/>
            <a:ext cx="152280" cy="15264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 flipH="1">
            <a:off x="5334120" y="3429000"/>
            <a:ext cx="304560" cy="83808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242120" cy="26319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129680" y="44560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rithmetic operators same as Java/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 flipH="1" flipV="1">
            <a:off x="2057400" y="3505320"/>
            <a:ext cx="76320" cy="9144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 flipH="1" flipV="1">
            <a:off x="1523880" y="4191120"/>
            <a:ext cx="457200" cy="30456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1981080" y="3200400"/>
            <a:ext cx="15264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1447920" y="3962520"/>
            <a:ext cx="228600" cy="2286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4495680" y="3200400"/>
            <a:ext cx="2286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 flipV="1">
            <a:off x="2438280" y="3504960"/>
            <a:ext cx="2133720" cy="99036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242120" cy="2631960"/>
          </a:xfrm>
          <a:prstGeom prst="rect">
            <a:avLst/>
          </a:prstGeom>
          <a:ln w="0">
            <a:noFill/>
          </a:ln>
        </p:spPr>
      </p:pic>
      <p:sp>
        <p:nvSpPr>
          <p:cNvPr id="116" name="Oval 4"/>
          <p:cNvSpPr/>
          <p:nvPr/>
        </p:nvSpPr>
        <p:spPr>
          <a:xfrm>
            <a:off x="7848720" y="3886200"/>
            <a:ext cx="2286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408200" y="4684680"/>
            <a:ext cx="31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tring concaten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s well as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V="1">
            <a:off x="6019920" y="4190760"/>
            <a:ext cx="1904760" cy="53316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242120" cy="2631960"/>
          </a:xfrm>
          <a:prstGeom prst="rect">
            <a:avLst/>
          </a:prstGeom>
          <a:ln w="0">
            <a:noFill/>
          </a:ln>
        </p:spPr>
      </p:pic>
      <p:sp>
        <p:nvSpPr>
          <p:cNvPr id="122" name="Oval 4"/>
          <p:cNvSpPr/>
          <p:nvPr/>
        </p:nvSpPr>
        <p:spPr>
          <a:xfrm>
            <a:off x="3200400" y="3200400"/>
            <a:ext cx="19810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804920" y="274320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rguments can be any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4648320" y="4191120"/>
            <a:ext cx="15228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509280" y="4648320"/>
            <a:ext cx="39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rgument lists are comma-sepa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242120" cy="26319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434960" y="4608360"/>
            <a:ext cx="53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bject dot notation for method calls as in Java/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2590920" y="3200400"/>
            <a:ext cx="609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3581280" y="3200400"/>
            <a:ext cx="83844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2286000" y="3886200"/>
            <a:ext cx="8380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 flipV="1">
            <a:off x="2590920" y="4266720"/>
            <a:ext cx="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 flipH="1" flipV="1">
            <a:off x="3124080" y="3504960"/>
            <a:ext cx="76320" cy="11430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 flipV="1">
            <a:off x="3352680" y="3581280"/>
            <a:ext cx="533520" cy="9907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143000" y="1733400"/>
            <a:ext cx="6858000" cy="39290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559400" y="1407960"/>
            <a:ext cx="37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any control constructs and us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{ } identical to Java/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143000" y="1676520"/>
            <a:ext cx="68580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371600" y="2666880"/>
            <a:ext cx="3808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1371600" y="3657600"/>
            <a:ext cx="5335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H="1">
            <a:off x="1676160" y="1600200"/>
            <a:ext cx="2895480" cy="763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676160" y="1752480"/>
            <a:ext cx="2895480" cy="9144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 flipH="1">
            <a:off x="1752480" y="1905120"/>
            <a:ext cx="2743200" cy="175248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143000" y="1733400"/>
            <a:ext cx="6858000" cy="392904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2590920" y="1600200"/>
            <a:ext cx="30456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2438280" y="2666880"/>
            <a:ext cx="2286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84520" y="148428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ost relational operators syntac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ame as Java/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 flipH="1">
            <a:off x="2819520" y="1600200"/>
            <a:ext cx="1676160" cy="763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 flipH="1">
            <a:off x="2666880" y="1981080"/>
            <a:ext cx="1828800" cy="83844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write a “Hello World!” JavaScrip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JavaScript language itself ha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o input/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s(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st browsers provide standard I/O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ale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ps up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lert 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ing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promp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ps up window where user can ente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JavaScrip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143000" y="1733400"/>
            <a:ext cx="6858000" cy="39290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4803840" y="1905120"/>
            <a:ext cx="29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utomatic type conver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guess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 String, 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hinkingOf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1905120" y="1676520"/>
            <a:ext cx="609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2895480" y="1676520"/>
            <a:ext cx="114300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 flipH="1" flipV="1">
            <a:off x="2438280" y="1980720"/>
            <a:ext cx="236232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H="1" flipV="1">
            <a:off x="3886200" y="1981080"/>
            <a:ext cx="914400" cy="15264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a variable i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yna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pends on the type of data it 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Script has six data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(values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 (only value of this type is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fined (value of newly created var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im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types: all but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ype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perator returns string related to dat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ype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3886200" cy="1541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TypeOf"/>
          <p:cNvPicPr/>
          <p:nvPr/>
        </p:nvPicPr>
        <p:blipFill>
          <a:blip r:embed="rId2"/>
          <a:stretch/>
        </p:blipFill>
        <p:spPr>
          <a:xfrm>
            <a:off x="4648320" y="3886200"/>
            <a:ext cx="426708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automatic type conver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mpare String and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tring value converted to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verted to 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rray acc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records[3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onverted to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 rules for names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dentifi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gin with letter or underscore ( _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ntain only letters, underscores, and digits (or certain other charac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not be a reserved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ariable will automatically be created if a value is assigned to an undeclared ident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commend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clare al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s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s certain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3935520" cy="6415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69920" y="335268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var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6"/>
          <p:cNvSpPr/>
          <p:nvPr/>
        </p:nvSpPr>
        <p:spPr>
          <a:xfrm>
            <a:off x="2286000" y="3505320"/>
            <a:ext cx="45720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at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ny statement that consists entirely of an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de that represents 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lock stat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ne or more statements enclosed in { } br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Keyword stat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tatement beginning with a keyword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e.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v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101772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v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ntax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-like keyword stat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4267080" cy="4618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266280" y="2093760"/>
            <a:ext cx="40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mma-separated declaration lis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ptional initializ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48484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572080" cy="51148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231840" y="1828800"/>
            <a:ext cx="186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re very sim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 Java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mall ex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572080" cy="5114880"/>
          </a:xfrm>
          <a:prstGeom prst="rect">
            <a:avLst/>
          </a:prstGeom>
          <a:ln w="0">
            <a:noFill/>
          </a:ln>
        </p:spPr>
      </p:pic>
      <p:sp>
        <p:nvSpPr>
          <p:cNvPr id="199" name="Oval 4"/>
          <p:cNvSpPr/>
          <p:nvPr/>
        </p:nvSpPr>
        <p:spPr>
          <a:xfrm>
            <a:off x="2133720" y="1600200"/>
            <a:ext cx="380880" cy="2286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3581280" y="1371600"/>
            <a:ext cx="221004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JSHelloWorld.j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ML document executing this cod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4496040" cy="447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5703840" cy="30258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6553080" y="502920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6632640" y="4800600"/>
            <a:ext cx="21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cript element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 load and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JavaScrip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572080" cy="5114880"/>
          </a:xfrm>
          <a:prstGeom prst="rect">
            <a:avLst/>
          </a:prstGeom>
          <a:ln w="0">
            <a:noFill/>
          </a:ln>
        </p:spPr>
      </p:pic>
      <p:sp>
        <p:nvSpPr>
          <p:cNvPr id="204" name="Oval 4"/>
          <p:cNvSpPr/>
          <p:nvPr/>
        </p:nvSpPr>
        <p:spPr>
          <a:xfrm>
            <a:off x="2514600" y="3124080"/>
            <a:ext cx="7621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6"/>
          <p:cNvSpPr/>
          <p:nvPr/>
        </p:nvSpPr>
        <p:spPr>
          <a:xfrm>
            <a:off x="2362320" y="2438280"/>
            <a:ext cx="34290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used to creat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mpound expres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simple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 can be classified according to the number o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vol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ne operand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ypeof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st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++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i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n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wo operand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x +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rn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ree operands (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ditional 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676520" y="5791320"/>
            <a:ext cx="373356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9152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Script Operator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matic Type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operators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+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-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*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/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vert both operands to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: I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operands of +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the other is converted to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al operators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&lt;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&gt;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&lt;=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&gt;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vert both operands to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: I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nds ar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 conversion is performed an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xicographic string compari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Script Operator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matic Type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s </a:t>
            </a:r>
            <a:r>
              <a:rPr b="0" lang="en-US" sz="2800" spc="-1" strike="noStrike">
                <a:solidFill>
                  <a:srgbClr val="009999"/>
                </a:solidFill>
                <a:latin typeface="Lucida Sans Typewriter"/>
              </a:rPr>
              <a:t>==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9999"/>
                </a:solidFill>
                <a:latin typeface="Lucida Sans Typewriter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vert both operands to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If both operands are String, no conversion is performed (lex. compari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values of Undefined and Null are equal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instance of Date built-in “class” is converted to String (and host object conversion is implementation depend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two Objects are equal only if they are references to the sam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declaration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5870520" cy="1073160"/>
          </a:xfrm>
          <a:prstGeom prst="rect">
            <a:avLst/>
          </a:prstGeom>
          <a:ln w="0">
            <a:noFill/>
          </a:ln>
        </p:spPr>
      </p:pic>
      <p:sp>
        <p:nvSpPr>
          <p:cNvPr id="223" name="Oval 5"/>
          <p:cNvSpPr/>
          <p:nvPr/>
        </p:nvSpPr>
        <p:spPr>
          <a:xfrm>
            <a:off x="2666880" y="2971800"/>
            <a:ext cx="129564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902160" y="2932200"/>
            <a:ext cx="161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lways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ith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func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o retur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declaration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5870520" cy="1073160"/>
          </a:xfrm>
          <a:prstGeom prst="rect">
            <a:avLst/>
          </a:prstGeom>
          <a:ln w="0">
            <a:noFill/>
          </a:ln>
        </p:spPr>
      </p:pic>
      <p:sp>
        <p:nvSpPr>
          <p:cNvPr id="229" name="Oval 5"/>
          <p:cNvSpPr/>
          <p:nvPr/>
        </p:nvSpPr>
        <p:spPr>
          <a:xfrm>
            <a:off x="3962520" y="3048120"/>
            <a:ext cx="8380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721680" y="232236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dentifier repres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unction’s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declaration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5870520" cy="1073160"/>
          </a:xfrm>
          <a:prstGeom prst="rect">
            <a:avLst/>
          </a:prstGeom>
          <a:ln w="0">
            <a:noFill/>
          </a:ln>
        </p:spPr>
      </p:pic>
      <p:sp>
        <p:nvSpPr>
          <p:cNvPr id="235" name="Oval 5"/>
          <p:cNvSpPr/>
          <p:nvPr/>
        </p:nvSpPr>
        <p:spPr>
          <a:xfrm>
            <a:off x="4724280" y="3048120"/>
            <a:ext cx="9144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4574880" y="25909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Formal paramet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declaration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5870520" cy="107316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2895480" y="3352680"/>
            <a:ext cx="55627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264120" y="3846600"/>
            <a:ext cx="40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ne or more statements representing </a:t>
            </a:r>
            <a:br>
              <a:rPr sz="1800"/>
            </a:b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function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call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4149720" cy="4478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3886200" y="2438280"/>
            <a:ext cx="2057400" cy="5335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723120" y="3084480"/>
            <a:ext cx="454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unction call is an expression,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e used on right-hand side of assignme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s expression stateme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5715000" cy="2936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page and alert box generated by 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JSHelloWorld.ht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cument and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 JSHelloWorld.j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AlertBox"/>
          <p:cNvPicPr/>
          <p:nvPr/>
        </p:nvPicPr>
        <p:blipFill>
          <a:blip r:embed="rId2"/>
          <a:stretch/>
        </p:blipFill>
        <p:spPr>
          <a:xfrm>
            <a:off x="2031840" y="3898800"/>
            <a:ext cx="43405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call semantics detai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rgu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’s effectively passed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y 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r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mal para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assigned values, argument is not 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ast statement executed is not return-value, then returned value is of type Un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4648320" y="2643120"/>
            <a:ext cx="1676160" cy="2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umber mism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argument list and formal parameter l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re argu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xcess ign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ewer argu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maining parameters are Un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vs. globa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661080" cy="2246040"/>
          </a:xfrm>
          <a:prstGeom prst="rect">
            <a:avLst/>
          </a:prstGeom>
          <a:ln w="0">
            <a:noFill/>
          </a:ln>
        </p:spPr>
      </p:pic>
      <p:sp>
        <p:nvSpPr>
          <p:cNvPr id="260" name="Oval 5"/>
          <p:cNvSpPr/>
          <p:nvPr/>
        </p:nvSpPr>
        <p:spPr>
          <a:xfrm>
            <a:off x="1447920" y="2514600"/>
            <a:ext cx="99036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514520" y="217008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Global variable: declared outside an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vs. globa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661080" cy="2246040"/>
          </a:xfrm>
          <a:prstGeom prst="rect">
            <a:avLst/>
          </a:prstGeom>
          <a:ln w="0">
            <a:noFill/>
          </a:ln>
        </p:spPr>
      </p:pic>
      <p:sp>
        <p:nvSpPr>
          <p:cNvPr id="266" name="Oval 5"/>
          <p:cNvSpPr/>
          <p:nvPr/>
        </p:nvSpPr>
        <p:spPr>
          <a:xfrm>
            <a:off x="1676520" y="3276720"/>
            <a:ext cx="76176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31120" y="2819520"/>
            <a:ext cx="116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o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cla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it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vs. globa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661080" cy="2246040"/>
          </a:xfrm>
          <a:prstGeom prst="rect">
            <a:avLst/>
          </a:prstGeom>
          <a:ln w="0">
            <a:noFill/>
          </a:ln>
        </p:spPr>
      </p:pic>
      <p:sp>
        <p:nvSpPr>
          <p:cNvPr id="272" name="Oval 5"/>
          <p:cNvSpPr/>
          <p:nvPr/>
        </p:nvSpPr>
        <p:spPr>
          <a:xfrm>
            <a:off x="1676520" y="3505320"/>
            <a:ext cx="609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960" y="2895480"/>
            <a:ext cx="162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ha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rrespo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338640" y="44560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utput is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2895480" y="4495680"/>
            <a:ext cx="2286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1981080" y="2514600"/>
            <a:ext cx="4572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2286000" y="2743200"/>
            <a:ext cx="685800" cy="175248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2133720" y="3276720"/>
            <a:ext cx="30456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AutoShape 12"/>
          <p:cNvCxnSpPr>
            <a:stCxn id="272" idx="5"/>
            <a:endCxn id="278" idx="5"/>
          </p:cNvCxnSpPr>
          <p:nvPr/>
        </p:nvCxnSpPr>
        <p:spPr>
          <a:xfrm flipH="1" flipV="1" rot="5400000">
            <a:off x="2147400" y="3584880"/>
            <a:ext cx="294480" cy="197640"/>
          </a:xfrm>
          <a:prstGeom prst="curvedConnector5">
            <a:avLst>
              <a:gd name="adj1" fmla="val -91799"/>
              <a:gd name="adj2" fmla="val 50000"/>
              <a:gd name="adj3" fmla="val -91799"/>
            </a:avLst>
          </a:prstGeom>
          <a:ln w="9360">
            <a:solidFill>
              <a:srgbClr val="008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vs. globa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661080" cy="22460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1630440" cy="233640"/>
          </a:xfrm>
          <a:prstGeom prst="rect">
            <a:avLst/>
          </a:prstGeom>
          <a:ln w="0">
            <a:noFill/>
          </a:ln>
        </p:spPr>
      </p:pic>
      <p:sp>
        <p:nvSpPr>
          <p:cNvPr id="285" name="Oval 7"/>
          <p:cNvSpPr/>
          <p:nvPr/>
        </p:nvSpPr>
        <p:spPr>
          <a:xfrm>
            <a:off x="1066680" y="3505320"/>
            <a:ext cx="167652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1905120" y="2514600"/>
            <a:ext cx="2286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 flipH="1" flipV="1">
            <a:off x="2133720" y="2819160"/>
            <a:ext cx="380880" cy="6858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3262320" y="44560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utput is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5760" y="3886200"/>
            <a:ext cx="31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 brows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and fun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re stored as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window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built-in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4"/>
          <p:cNvSpPr/>
          <p:nvPr/>
        </p:nvSpPr>
        <p:spPr>
          <a:xfrm>
            <a:off x="2895480" y="4495680"/>
            <a:ext cx="2286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AutoShape 15"/>
          <p:cNvCxnSpPr>
            <a:stCxn id="286" idx="6"/>
            <a:endCxn id="290" idx="7"/>
          </p:cNvCxnSpPr>
          <p:nvPr/>
        </p:nvCxnSpPr>
        <p:spPr>
          <a:xfrm>
            <a:off x="2133360" y="2705040"/>
            <a:ext cx="957960" cy="1836000"/>
          </a:xfrm>
          <a:prstGeom prst="curvedConnector2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ype conver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pplied by built-i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olean(), String(), Numbe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akes a single argument, returns value representing argument converted according to type-conversion rules given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 cla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Java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properties can be created and deleted dynam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1219320" y="3352680"/>
            <a:ext cx="4572000" cy="10400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5857560" y="3268800"/>
            <a:ext cx="278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reate an object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reate property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let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esting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created using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stru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via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, a new empty Object is created and passed to the constructor along with the argument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performs initialization o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d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dd object to 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heritance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1798560" cy="244440"/>
          </a:xfrm>
          <a:prstGeom prst="rect">
            <a:avLst/>
          </a:prstGeom>
          <a:ln w="0">
            <a:noFill/>
          </a:ln>
        </p:spPr>
      </p:pic>
      <p:sp>
        <p:nvSpPr>
          <p:cNvPr id="304" name="Oval 5"/>
          <p:cNvSpPr/>
          <p:nvPr/>
        </p:nvSpPr>
        <p:spPr>
          <a:xfrm>
            <a:off x="2438280" y="2209680"/>
            <a:ext cx="13716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873960" y="2246400"/>
            <a:ext cx="31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structor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nd argument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Objec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t-in co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add any properties or methods directly to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object to hierarchy that defines default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oString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valueOf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(used for conversions to String and Number, resp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 window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620120" cy="53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romptBox"/>
          <p:cNvPicPr/>
          <p:nvPr/>
        </p:nvPicPr>
        <p:blipFill>
          <a:blip r:embed="rId2"/>
          <a:stretch/>
        </p:blipFill>
        <p:spPr>
          <a:xfrm>
            <a:off x="1523880" y="3124080"/>
            <a:ext cx="60199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y 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non-existent (even if inherited) property name creates th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Object initializ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ation can be used to create an object (using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Objec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uctor) and one or more properties in a single sta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405320" cy="328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"/>
          <p:cNvPicPr/>
          <p:nvPr/>
        </p:nvPicPr>
        <p:blipFill>
          <a:blip r:embed="rId2"/>
          <a:stretch/>
        </p:blipFill>
        <p:spPr>
          <a:xfrm>
            <a:off x="1219320" y="5334120"/>
            <a:ext cx="647676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umerating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form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 used to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terate through all prope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3243240" cy="314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"/>
          <p:cNvPicPr/>
          <p:nvPr/>
        </p:nvPicPr>
        <p:blipFill>
          <a:blip r:embed="rId2"/>
          <a:stretch/>
        </p:blipFill>
        <p:spPr>
          <a:xfrm>
            <a:off x="1981080" y="3352680"/>
            <a:ext cx="6570720" cy="18194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6"/>
          <p:cNvSpPr/>
          <p:nvPr/>
        </p:nvSpPr>
        <p:spPr>
          <a:xfrm>
            <a:off x="157320" y="4343400"/>
            <a:ext cx="317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duces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lert box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rder of n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s implementation-depend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1905120" y="43434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ing Property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avaScript object dot notation is actually shorthand for a more general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ssociative ar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ation in which Strings are array ind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s can supply property nam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1160640" cy="260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"/>
          <p:cNvPicPr/>
          <p:nvPr/>
        </p:nvPicPr>
        <p:blipFill>
          <a:blip r:embed="rId2"/>
          <a:stretch/>
        </p:blipFill>
        <p:spPr>
          <a:xfrm>
            <a:off x="3581280" y="3809880"/>
            <a:ext cx="1447920" cy="290520"/>
          </a:xfrm>
          <a:prstGeom prst="rect">
            <a:avLst/>
          </a:prstGeom>
          <a:ln w="0">
            <a:noFill/>
          </a:ln>
        </p:spPr>
      </p:pic>
      <p:sp>
        <p:nvSpPr>
          <p:cNvPr id="326" name="Line 6"/>
          <p:cNvSpPr/>
          <p:nvPr/>
        </p:nvSpPr>
        <p:spPr>
          <a:xfrm>
            <a:off x="2895480" y="39625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7" descr=""/>
          <p:cNvPicPr/>
          <p:nvPr/>
        </p:nvPicPr>
        <p:blipFill>
          <a:blip r:embed="rId3"/>
          <a:stretch/>
        </p:blipFill>
        <p:spPr>
          <a:xfrm>
            <a:off x="1523880" y="4952880"/>
            <a:ext cx="5639040" cy="303480"/>
          </a:xfrm>
          <a:prstGeom prst="rect">
            <a:avLst/>
          </a:prstGeom>
          <a:ln w="0">
            <a:noFill/>
          </a:ln>
        </p:spPr>
      </p:pic>
      <p:sp>
        <p:nvSpPr>
          <p:cNvPr id="328" name="Oval 8"/>
          <p:cNvSpPr/>
          <p:nvPr/>
        </p:nvSpPr>
        <p:spPr>
          <a:xfrm>
            <a:off x="6172200" y="4952880"/>
            <a:ext cx="6858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717880" y="5257800"/>
            <a:ext cx="21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nverted to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f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2789280" cy="1387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Object is reference to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5"/>
          <p:cNvSpPr/>
          <p:nvPr/>
        </p:nvSpPr>
        <p:spPr>
          <a:xfrm>
            <a:off x="2286000" y="3352680"/>
            <a:ext cx="16002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444600" y="3236760"/>
            <a:ext cx="15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o2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ame for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2789280" cy="13874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Object is reference to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5"/>
          <p:cNvSpPr/>
          <p:nvPr/>
        </p:nvSpPr>
        <p:spPr>
          <a:xfrm>
            <a:off x="2209680" y="3657600"/>
            <a:ext cx="27432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993600" y="358128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1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2789280" cy="13874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Object is reference to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5096520" y="39225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utput i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Hello Worl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3886200" y="3962520"/>
            <a:ext cx="9144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unctions are stored as val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yp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declaration creates a function value and stores it in a variable (property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wind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having the same name as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th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object property for which the value is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369120" cy="941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1308240" y="3367080"/>
            <a:ext cx="4178160" cy="2050920"/>
          </a:xfrm>
          <a:prstGeom prst="rect">
            <a:avLst/>
          </a:prstGeom>
          <a:ln w="0">
            <a:noFill/>
          </a:ln>
        </p:spPr>
      </p:pic>
      <p:sp>
        <p:nvSpPr>
          <p:cNvPr id="355" name="Oval 5"/>
          <p:cNvSpPr/>
          <p:nvPr/>
        </p:nvSpPr>
        <p:spPr>
          <a:xfrm>
            <a:off x="1295280" y="2286000"/>
            <a:ext cx="20574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440720" y="194148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reates global variable named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leaf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with function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369120" cy="94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"/>
          <p:cNvPicPr/>
          <p:nvPr/>
        </p:nvPicPr>
        <p:blipFill>
          <a:blip r:embed="rId2"/>
          <a:stretch/>
        </p:blipFill>
        <p:spPr>
          <a:xfrm>
            <a:off x="1308240" y="3367080"/>
            <a:ext cx="4178160" cy="2050920"/>
          </a:xfrm>
          <a:prstGeom prst="rect">
            <a:avLst/>
          </a:prstGeom>
          <a:ln w="0">
            <a:noFill/>
          </a:ln>
        </p:spPr>
      </p:pic>
      <p:sp>
        <p:nvSpPr>
          <p:cNvPr id="361" name="Oval 5"/>
          <p:cNvSpPr/>
          <p:nvPr/>
        </p:nvSpPr>
        <p:spPr>
          <a:xfrm>
            <a:off x="1523880" y="4495680"/>
            <a:ext cx="259092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4181400" y="4456080"/>
            <a:ext cx="36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reate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isLeaf()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method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fined by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leaf()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Ar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t-in object can be used to construct objects with special properties and that inherit various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3124440" cy="3985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7"/>
          <p:cNvSpPr/>
          <p:nvPr/>
        </p:nvSpPr>
        <p:spPr>
          <a:xfrm>
            <a:off x="1295280" y="4038480"/>
            <a:ext cx="205740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8"/>
          <p:cNvSpPr/>
          <p:nvPr/>
        </p:nvSpPr>
        <p:spPr>
          <a:xfrm>
            <a:off x="1295280" y="4343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1295280" y="4800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1983600" y="40384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1285920" y="43783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length 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285920" y="483552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oStrin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sor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shif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0"/>
          <p:cNvSpPr/>
          <p:nvPr/>
        </p:nvSpPr>
        <p:spPr>
          <a:xfrm>
            <a:off x="3415680" y="4303800"/>
            <a:ext cx="122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her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JavaScript code did not need to be comp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Script is a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terpre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 of browser software that reads and executes JavaScript is a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ed vs. compiled langu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Ar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t-in object can be used to construct objects with special properties and that inherit various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1006560" y="3394080"/>
            <a:ext cx="4419360" cy="27612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2"/>
          <p:cNvSpPr/>
          <p:nvPr/>
        </p:nvSpPr>
        <p:spPr>
          <a:xfrm>
            <a:off x="1692360" y="3927600"/>
            <a:ext cx="2057400" cy="23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"/>
          <p:cNvSpPr/>
          <p:nvPr/>
        </p:nvSpPr>
        <p:spPr>
          <a:xfrm>
            <a:off x="1692360" y="42321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4"/>
          <p:cNvSpPr/>
          <p:nvPr/>
        </p:nvSpPr>
        <p:spPr>
          <a:xfrm>
            <a:off x="1676520" y="5562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2380680" y="39276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1683000" y="426708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length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0”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1” (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2” (“OK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1606680" y="56386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oStrin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8"/>
          <p:cNvSpPr/>
          <p:nvPr/>
        </p:nvSpPr>
        <p:spPr>
          <a:xfrm>
            <a:off x="1539720" y="453708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399240" y="46893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f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4651560" y="4343400"/>
            <a:ext cx="285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array e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ary2[1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ary2[“1”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ary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1"/>
          <p:cNvSpPr/>
          <p:nvPr/>
        </p:nvSpPr>
        <p:spPr>
          <a:xfrm>
            <a:off x="4800600" y="4800600"/>
            <a:ext cx="76320" cy="763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2"/>
          <p:cNvSpPr/>
          <p:nvPr/>
        </p:nvSpPr>
        <p:spPr>
          <a:xfrm flipV="1">
            <a:off x="4876920" y="4647960"/>
            <a:ext cx="152280" cy="2286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3"/>
          <p:cNvSpPr/>
          <p:nvPr/>
        </p:nvSpPr>
        <p:spPr>
          <a:xfrm>
            <a:off x="4800600" y="5105520"/>
            <a:ext cx="76320" cy="7596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4"/>
          <p:cNvSpPr/>
          <p:nvPr/>
        </p:nvSpPr>
        <p:spPr>
          <a:xfrm flipV="1">
            <a:off x="4876920" y="4952520"/>
            <a:ext cx="152280" cy="2286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5"/>
          <p:cNvSpPr/>
          <p:nvPr/>
        </p:nvSpPr>
        <p:spPr>
          <a:xfrm>
            <a:off x="4800600" y="525780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6"/>
          <p:cNvSpPr/>
          <p:nvPr/>
        </p:nvSpPr>
        <p:spPr>
          <a:xfrm flipH="1">
            <a:off x="4800240" y="525780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7"/>
          <p:cNvSpPr/>
          <p:nvPr/>
        </p:nvSpPr>
        <p:spPr>
          <a:xfrm>
            <a:off x="5943600" y="5181480"/>
            <a:ext cx="2286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5855040" y="54468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ust follow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yntax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29"/>
          <p:cNvSpPr/>
          <p:nvPr/>
        </p:nvSpPr>
        <p:spPr>
          <a:xfrm>
            <a:off x="1676520" y="4495680"/>
            <a:ext cx="609480" cy="9907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Ar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uctor is indirectly called if an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rray initializ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 initializiers can be used to creat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ultidimensional ar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3141720" cy="301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"/>
          <p:cNvPicPr/>
          <p:nvPr/>
        </p:nvPicPr>
        <p:blipFill>
          <a:blip r:embed="rId2"/>
          <a:stretch/>
        </p:blipFill>
        <p:spPr>
          <a:xfrm>
            <a:off x="1523880" y="2819520"/>
            <a:ext cx="4419720" cy="27612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6"/>
          <p:cNvSpPr/>
          <p:nvPr/>
        </p:nvSpPr>
        <p:spPr>
          <a:xfrm>
            <a:off x="3048120" y="31240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7" descr=""/>
          <p:cNvPicPr/>
          <p:nvPr/>
        </p:nvPicPr>
        <p:blipFill>
          <a:blip r:embed="rId3"/>
          <a:stretch/>
        </p:blipFill>
        <p:spPr>
          <a:xfrm>
            <a:off x="1523880" y="5029200"/>
            <a:ext cx="4496040" cy="1000080"/>
          </a:xfrm>
          <a:prstGeom prst="rect">
            <a:avLst/>
          </a:prstGeom>
          <a:ln w="0">
            <a:noFill/>
          </a:ln>
        </p:spPr>
      </p:pic>
      <p:sp>
        <p:nvSpPr>
          <p:cNvPr id="403" name="Oval 8"/>
          <p:cNvSpPr/>
          <p:nvPr/>
        </p:nvSpPr>
        <p:spPr>
          <a:xfrm>
            <a:off x="4800600" y="5257800"/>
            <a:ext cx="5335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5857560" y="4759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tt[1][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0"/>
          <p:cNvSpPr/>
          <p:nvPr/>
        </p:nvSpPr>
        <p:spPr>
          <a:xfrm flipH="1">
            <a:off x="5257440" y="5029200"/>
            <a:ext cx="76212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number of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4419720" cy="2761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1447920" y="2743200"/>
            <a:ext cx="1896840" cy="31752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6"/>
          <p:cNvSpPr/>
          <p:nvPr/>
        </p:nvSpPr>
        <p:spPr>
          <a:xfrm>
            <a:off x="1539720" y="3394080"/>
            <a:ext cx="2057400" cy="27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1539720" y="3699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8"/>
          <p:cNvSpPr/>
          <p:nvPr/>
        </p:nvSpPr>
        <p:spPr>
          <a:xfrm>
            <a:off x="1523880" y="5334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2228040" y="33940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1530720" y="3733920"/>
            <a:ext cx="168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length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0”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1” (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2” (“OK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3” (-12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1"/>
          <p:cNvSpPr/>
          <p:nvPr/>
        </p:nvSpPr>
        <p:spPr>
          <a:xfrm>
            <a:off x="1454400" y="54864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oStrin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4"/>
          <p:cNvSpPr/>
          <p:nvPr/>
        </p:nvSpPr>
        <p:spPr>
          <a:xfrm>
            <a:off x="1447920" y="4800600"/>
            <a:ext cx="175248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5"/>
          <p:cNvSpPr/>
          <p:nvPr/>
        </p:nvSpPr>
        <p:spPr>
          <a:xfrm>
            <a:off x="2666880" y="3733920"/>
            <a:ext cx="22860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7"/>
          <p:cNvSpPr/>
          <p:nvPr/>
        </p:nvSpPr>
        <p:spPr>
          <a:xfrm>
            <a:off x="1371600" y="2743200"/>
            <a:ext cx="19810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3434040" y="2666880"/>
            <a:ext cx="38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reates a new element dynamic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creases value of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9"/>
          <p:cNvSpPr/>
          <p:nvPr/>
        </p:nvSpPr>
        <p:spPr>
          <a:xfrm flipH="1">
            <a:off x="3200400" y="2971800"/>
            <a:ext cx="3657600" cy="20574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 flipH="1">
            <a:off x="2971440" y="3276720"/>
            <a:ext cx="2590920" cy="53316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number of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4419720" cy="276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"/>
          <p:cNvPicPr/>
          <p:nvPr/>
        </p:nvPicPr>
        <p:blipFill>
          <a:blip r:embed="rId2"/>
          <a:stretch/>
        </p:blipFill>
        <p:spPr>
          <a:xfrm>
            <a:off x="1447920" y="2590920"/>
            <a:ext cx="1896840" cy="31752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6"/>
          <p:cNvSpPr/>
          <p:nvPr/>
        </p:nvSpPr>
        <p:spPr>
          <a:xfrm>
            <a:off x="1539720" y="3394080"/>
            <a:ext cx="2057400" cy="27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>
            <a:off x="1539720" y="3699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1523880" y="5334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2228040" y="33940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530360" y="373392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length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0”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1” (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1454400" y="54864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oStrin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3"/>
          <p:cNvSpPr/>
          <p:nvPr/>
        </p:nvSpPr>
        <p:spPr>
          <a:xfrm>
            <a:off x="2666880" y="3733920"/>
            <a:ext cx="22860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8" descr=""/>
          <p:cNvPicPr/>
          <p:nvPr/>
        </p:nvPicPr>
        <p:blipFill>
          <a:blip r:embed="rId3"/>
          <a:stretch/>
        </p:blipFill>
        <p:spPr>
          <a:xfrm>
            <a:off x="1447920" y="2895480"/>
            <a:ext cx="1981080" cy="306360"/>
          </a:xfrm>
          <a:prstGeom prst="rect">
            <a:avLst/>
          </a:prstGeom>
          <a:ln w="0">
            <a:noFill/>
          </a:ln>
        </p:spPr>
      </p:pic>
      <p:sp>
        <p:nvSpPr>
          <p:cNvPr id="436" name="Oval 19"/>
          <p:cNvSpPr/>
          <p:nvPr/>
        </p:nvSpPr>
        <p:spPr>
          <a:xfrm>
            <a:off x="1371600" y="2895480"/>
            <a:ext cx="213372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3495240" y="285588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creasing length can delete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1"/>
          <p:cNvSpPr/>
          <p:nvPr/>
        </p:nvSpPr>
        <p:spPr>
          <a:xfrm>
            <a:off x="1600200" y="45720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2"/>
          <p:cNvSpPr/>
          <p:nvPr/>
        </p:nvSpPr>
        <p:spPr>
          <a:xfrm flipH="1">
            <a:off x="2895480" y="3200400"/>
            <a:ext cx="1828800" cy="60948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3"/>
          <p:cNvSpPr/>
          <p:nvPr/>
        </p:nvSpPr>
        <p:spPr>
          <a:xfrm flipH="1">
            <a:off x="3504960" y="3124080"/>
            <a:ext cx="2895480" cy="16002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 necessarily the same as the actual number of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1450440" y="2895480"/>
            <a:ext cx="28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 ary4 = new Array(2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1463760" y="3470400"/>
            <a:ext cx="2057400" cy="232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7"/>
          <p:cNvSpPr/>
          <p:nvPr/>
        </p:nvSpPr>
        <p:spPr>
          <a:xfrm>
            <a:off x="1463760" y="3774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1447920" y="4495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2152080" y="34704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y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1455120" y="38098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length (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1454400" y="457200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oStrin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sor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shif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4409640" y="2855880"/>
            <a:ext cx="42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alling constructor with singl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t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length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, does not create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 flipH="1">
            <a:off x="3200040" y="3429000"/>
            <a:ext cx="2133720" cy="5335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4"/>
          <p:cNvSpPr/>
          <p:nvPr/>
        </p:nvSpPr>
        <p:spPr>
          <a:xfrm>
            <a:off x="2590920" y="3809880"/>
            <a:ext cx="53316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"/>
          <p:cNvSpPr/>
          <p:nvPr/>
        </p:nvSpPr>
        <p:spPr>
          <a:xfrm flipV="1">
            <a:off x="2438280" y="3429000"/>
            <a:ext cx="5029200" cy="914400"/>
          </a:xfrm>
          <a:prstGeom prst="line">
            <a:avLst/>
          </a:prstGeom>
          <a:ln w="9360">
            <a:solidFill>
              <a:srgbClr val="0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6"/>
          <p:cNvSpPr/>
          <p:nvPr/>
        </p:nvSpPr>
        <p:spPr>
          <a:xfrm>
            <a:off x="3733920" y="2895480"/>
            <a:ext cx="3808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38784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2057400" y="1380960"/>
            <a:ext cx="510552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2057400" y="1380960"/>
            <a:ext cx="5105520" cy="4783320"/>
          </a:xfrm>
          <a:prstGeom prst="rect">
            <a:avLst/>
          </a:prstGeom>
          <a:ln w="0">
            <a:noFill/>
          </a:ln>
        </p:spPr>
      </p:pic>
      <p:sp>
        <p:nvSpPr>
          <p:cNvPr id="465" name="Oval 4"/>
          <p:cNvSpPr/>
          <p:nvPr/>
        </p:nvSpPr>
        <p:spPr>
          <a:xfrm>
            <a:off x="2057400" y="4267080"/>
            <a:ext cx="29718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5016960" y="399888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dd element with value 2.5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dex 2, shift existing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6"/>
          <p:cNvSpPr/>
          <p:nvPr/>
        </p:nvSpPr>
        <p:spPr>
          <a:xfrm>
            <a:off x="5105520" y="4572000"/>
            <a:ext cx="457200" cy="2286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1"/>
          <a:stretch/>
        </p:blipFill>
        <p:spPr>
          <a:xfrm>
            <a:off x="2057400" y="1380960"/>
            <a:ext cx="5105520" cy="4783320"/>
          </a:xfrm>
          <a:prstGeom prst="rect">
            <a:avLst/>
          </a:prstGeom>
          <a:ln w="0">
            <a:noFill/>
          </a:ln>
        </p:spPr>
      </p:pic>
      <p:sp>
        <p:nvSpPr>
          <p:cNvPr id="471" name="Oval 4"/>
          <p:cNvSpPr/>
          <p:nvPr/>
        </p:nvSpPr>
        <p:spPr>
          <a:xfrm>
            <a:off x="3505320" y="5257800"/>
            <a:ext cx="22096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5321880" y="4761000"/>
            <a:ext cx="30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move 3 elements st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 inde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t-in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lobal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d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wind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properties representing all global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built-in objects are also properties of the global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itial value of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window.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some other usefu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window.Infi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s Numbe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Script is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cripting langu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signed to be executed within a larger softwar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Script can be run within a variety of environ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rowsers (our focus in next chap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containers (general-purpose program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t-in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obal object and variable 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y we can refer to built-in objects (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Ar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tc.) without prefixing with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wind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513080" y="25495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i = 4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2824560" y="2514600"/>
            <a:ext cx="5037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hat doe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i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refer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arch for local variable or formal parameter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amed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f none found, see if global object (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window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 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as property named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i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6"/>
          <p:cNvSpPr/>
          <p:nvPr/>
        </p:nvSpPr>
        <p:spPr>
          <a:xfrm>
            <a:off x="1523880" y="2514600"/>
            <a:ext cx="2286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t-in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String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Boolean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Number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t-in functions can be called as constructors, created “wrapped”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s inherit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valueOf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 that returns wrapped value of specified 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4" descr=""/>
          <p:cNvPicPr/>
          <p:nvPr/>
        </p:nvPicPr>
        <p:blipFill>
          <a:blip r:embed="rId1"/>
          <a:stretch/>
        </p:blipFill>
        <p:spPr>
          <a:xfrm>
            <a:off x="1371600" y="3317760"/>
            <a:ext cx="5106960" cy="3063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"/>
          <p:cNvPicPr/>
          <p:nvPr/>
        </p:nvPicPr>
        <p:blipFill>
          <a:blip r:embed="rId2"/>
          <a:stretch/>
        </p:blipFill>
        <p:spPr>
          <a:xfrm>
            <a:off x="1447920" y="4876920"/>
            <a:ext cx="5562360" cy="32832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6"/>
          <p:cNvSpPr/>
          <p:nvPr/>
        </p:nvSpPr>
        <p:spPr>
          <a:xfrm>
            <a:off x="4650840" y="533412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utput is “numb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t-in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4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t-in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Date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ilt-in constructor can be used to creat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ances that represent the current date a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used to display local date and/or time in Web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ethods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oLocaleDateString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oLocaleTimeString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1068840" y="304812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 now = new Dat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010520" y="441972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window.alert(“Current date and time: “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         + now.toLocaleString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t-in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Ma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bject has methods for performing standard mathematical calcul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has properties with approximate values for standard mathematical quantitie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Math.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Math.P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200160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ata in JavaScript is an object or a property of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JavaScrip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vided by scripting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utomatically constructed before program execution, known as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uilt-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(ex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wind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vided by host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al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host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JavaScript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r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avaScrip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text editor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, Notepad, Ema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softwar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, MS Visual InterDe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ec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ava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into browser (need HTML docu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r detect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un-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: JavaScript console lists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6: Exclamation icon and pop-up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8:49:17Z</dcterms:created>
  <dc:creator>Duquesne University</dc:creator>
  <dc:description/>
  <dc:language>en-US</dc:language>
  <cp:lastModifiedBy>user</cp:lastModifiedBy>
  <dcterms:modified xsi:type="dcterms:W3CDTF">2017-09-29T10:49:35Z</dcterms:modified>
  <cp:revision>53</cp:revision>
  <dc:subject/>
  <dc:title>Chapter 4 Client-Side Programming: the JavaScript Language</dc:title>
</cp:coreProperties>
</file>